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9796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08908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9796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9796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264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2089080"/>
            <a:ext cx="264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2089080"/>
            <a:ext cx="264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97960"/>
            <a:ext cx="264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97960"/>
            <a:ext cx="264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97960"/>
            <a:ext cx="264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20890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015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2089080"/>
            <a:ext cx="4015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089080"/>
            <a:ext cx="4015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9796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015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8908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9796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8908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89080"/>
            <a:ext cx="40158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796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890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600" spc="-1" strike="noStrike">
                <a:solidFill>
                  <a:srgbClr val="262626"/>
                </a:solidFill>
                <a:latin typeface="Calibri"/>
              </a:rPr>
              <a:t>SKAL INTERNATIONAL AUSTRALIA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306600"/>
            <a:ext cx="64008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898989"/>
                </a:solidFill>
                <a:latin typeface="Calibri"/>
              </a:rPr>
              <a:t>92nd National Assembly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898989"/>
                </a:solidFill>
                <a:latin typeface="Calibri"/>
              </a:rPr>
              <a:t>Sunshine Coas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898989"/>
                </a:solidFill>
                <a:latin typeface="Calibri"/>
              </a:rPr>
              <a:t>4/5 September 2015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4400" spc="-1" strike="noStrike">
                <a:solidFill>
                  <a:srgbClr val="262626"/>
                </a:solidFill>
                <a:latin typeface="Calibri"/>
              </a:rPr>
              <a:t>Membership Classifications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0890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RANSPORTATION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viation: airlines, airports, IAT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Maritime: passenger shipping, sea ferries, sea por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Inland waterways: lake/river steamers, yachts, sightseeing operation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Railway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utocar and coach compani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Car hire and car rental compani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4400" spc="-1" strike="noStrike">
                <a:solidFill>
                  <a:srgbClr val="262626"/>
                </a:solidFill>
                <a:latin typeface="Calibri"/>
              </a:rPr>
              <a:t>Membership Classifications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4670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ACCOMMODATION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404040"/>
                </a:solidFill>
                <a:latin typeface="Calibri"/>
              </a:rPr>
              <a:t>Hotel chain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404040"/>
                </a:solidFill>
                <a:latin typeface="Calibri"/>
              </a:rPr>
              <a:t>Hotels, motels, motor inn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404040"/>
                </a:solidFill>
                <a:latin typeface="Calibri"/>
              </a:rPr>
              <a:t>Tourist accommodation, holiday villages, clubs and camp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404040"/>
                </a:solidFill>
                <a:latin typeface="Calibri"/>
              </a:rPr>
              <a:t>Tourist apartments, camping site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4400" spc="-1" strike="noStrike">
                <a:solidFill>
                  <a:srgbClr val="262626"/>
                </a:solidFill>
                <a:latin typeface="Calibri"/>
              </a:rPr>
              <a:t>Membership Classifications 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0188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RAVEL AND TOURISM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Tourist organisations and associations: travel and tourism education, congress and convention centres, convention organisers, OTAs/reservations systems, hotel/travel agent/tour operator associations, tourist attrac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Travel/Tourism Consultanc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Travel Insuran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Travel Agents, Tour Operators, Inbound/Receptive Operators, Wholesale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General Sales Ag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4400" spc="-1" strike="noStrike">
                <a:solidFill>
                  <a:srgbClr val="262626"/>
                </a:solidFill>
                <a:latin typeface="Calibri"/>
              </a:rPr>
              <a:t>Membership Classifications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7796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Official Tourist Organisations: tourism ministers, embassies, consulates, government tourism organisation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MEDI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ravel Media: publishers, editors, travel writers, TV/radio  producers/reporters/broadcaster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SPORTING, RECREATION AND DINING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404040"/>
                </a:solidFill>
                <a:latin typeface="Calibri"/>
              </a:rPr>
              <a:t>Restaurants, Golf Clubs, Spa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262626"/>
                </a:solidFill>
                <a:latin typeface="Calibri"/>
              </a:rPr>
              <a:t>Current Situation – Aug 2015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0890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Healthy membership numbers national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1045 members at 20 Aug 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Same as at 31 Dec 2013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Club membership growth since 01 Nov 2014: Brisbane +19, Hobart +17, Perth +11, Broome +10, Sydney +9, Southern Gold Coast +9, Sydney North +8, Sunshine Coast +6, Darwin +7, Cairns +5, Kununurra +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2016 membership goal 110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Membership retention and growth into 2016 is ke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6840" y="704520"/>
            <a:ext cx="87188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262626"/>
                </a:solidFill>
                <a:latin typeface="Calibri"/>
              </a:rPr>
              <a:t>Tools and Resources - Aug 2015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890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SIA powerpoint presentation shared with all Club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SIA Forward Planning Strategy 2014-2019 (VP Mark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Club Business and Financial Plans 2015 X8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2016 Plans due 31 Oct 2015 – Annual Platinum Club Awar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Position descriptions for Committee members (Club Statutes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Succession planning by Committe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Committee handovers annual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MDO on each Committe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Model Statutes for SKAL Club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262626"/>
                </a:solidFill>
                <a:latin typeface="Calibri"/>
              </a:rPr>
              <a:t>Membership Applications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0508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SKAL International By-Laws for membership categor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Membership applications online – pre-populat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Membership approval process online – automat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Members responsible for updating their personal/contact information in SI datab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Process relies on personal/contact details being updated/correct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SKAL brochure for all members to u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Annual Committee handovers are ke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Skål International </a:t>
            </a:r>
            <a:br>
              <a:rPr sz="3200"/>
            </a:b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provides access to :-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00320" y="2089080"/>
            <a:ext cx="46861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40404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bal markets and custom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ing and business focu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e event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touris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wards and recognition progra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to B workshop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es trips – attend any Skål Club meeting globally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e Leaders/Young Professionals Program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all industry secto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effectivenes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2" name="Picture 3" descr="200235995-001.png"/>
          <p:cNvPicPr/>
          <p:nvPr/>
        </p:nvPicPr>
        <p:blipFill>
          <a:blip r:embed="rId1"/>
          <a:stretch/>
        </p:blipFill>
        <p:spPr>
          <a:xfrm>
            <a:off x="457200" y="2392200"/>
            <a:ext cx="31212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4400" spc="-1" strike="noStrike">
                <a:solidFill>
                  <a:srgbClr val="262626"/>
                </a:solidFill>
                <a:latin typeface="Calibri"/>
              </a:rPr>
              <a:t>SKAL INTERNATIONAL AUSTRALIA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20890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92nd National Assembly, Sunshine Coas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4/5 September 2015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Club Forum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Membership Benefit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Membership Retention and Growth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Protocols</a:t>
            </a:r>
            <a:r>
              <a:rPr b="0" lang="en-AU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2040"/>
            <a:ext cx="777240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Calibri"/>
              </a:rPr>
              <a:t>SKÅL</a:t>
            </a:r>
            <a:endParaRPr b="0" lang="en-US" sz="6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25720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not an acronym, it is a global networking organisation with opportunities for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ppliers, Sales, Skills, Sustainability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K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Contacts, Key Markets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Å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ociation, Affiliation, Agents, Acces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L: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dership, Learning, Leverag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12 JULY 2015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alibri"/>
              </a:rPr>
              <a:t>Skål International at Aug 2015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601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rgest Travel and Tourism Organisation global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cludes all industry sector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6,338 member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92 Club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ubs are not-for-profit, and support local selected chariti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5 countri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ubs/chapters in key global tourism markets for Australi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ubs/chapters in global secondary tourism markets for Australi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ubs/chapters in global emerging tourism markets for Australi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ubs/chapters in many global future tourism markets for Australi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0448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Skål International Australia</a:t>
            </a:r>
            <a:br>
              <a:rPr sz="4400"/>
            </a:b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Forward Planning Strategy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5536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 retain membership numbers, set a strategy for membership growth and Club development; and position Skål as the trusted and respected voice in travel and tourism in Australia.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ubs have a Business and Financial Plan in place, which is reviewed and updated annually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Member Benefits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54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ing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 of the largest travel and tourism organisation globally, which is unique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focus with opportunities at all level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introductions and contact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ous meetings at local, national, area and international level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ds and recognition program with PR, regular newsletters etc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ERS: SKAL International Event Registration System – attendance at Club meetings global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Skål International role in State and Regional Tourism 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593800"/>
            <a:ext cx="8229600" cy="39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ål Clubs in regional locations are uniqu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urism networking and association month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discussion of state/regional/local issu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 of issues into national/international industry forum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y participation domestically/international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casing in B to B trade events global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iling in awards programs, international media, and international/area/national/Club newsletter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alibri"/>
              </a:rPr>
              <a:t>Future Leaders/Young Professional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0188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Leaders/Young Professionals program is in its infancy  and good progress is being made, which includes Young Skal/Young Professional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Skålorship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ual Symposium (March 2015 in Rom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llent opportunities for tourism students and young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ing opportun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oring opportunitie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016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000" spc="-1" strike="noStrike">
                <a:solidFill>
                  <a:srgbClr val="262626"/>
                </a:solidFill>
                <a:latin typeface="Calibri"/>
              </a:rPr>
              <a:t>B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REAKDOWN OF TOTAL MEMBERSHIP BY AUSTRALIAN CLUB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AT  12 JULY 2015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556000"/>
          <a:ext cx="8229600" cy="3289320"/>
        </p:xfrm>
        <a:graphic>
          <a:graphicData uri="http://schemas.openxmlformats.org/drawingml/2006/table">
            <a:tbl>
              <a:tblPr/>
              <a:tblGrid>
                <a:gridCol w="1930320"/>
                <a:gridCol w="412920"/>
                <a:gridCol w="379440"/>
                <a:gridCol w="541080"/>
                <a:gridCol w="603360"/>
                <a:gridCol w="657360"/>
                <a:gridCol w="1271520"/>
                <a:gridCol w="1442880"/>
                <a:gridCol w="473040"/>
                <a:gridCol w="517680"/>
              </a:tblGrid>
              <a:tr h="298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u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or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ci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ng Skå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ng Skål Associ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ng Skål Profess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ir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ELA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AN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SBA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O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NBURY-MARGARET RI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I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BER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RICOR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W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LD CO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B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UNUR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NCEST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BOUR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RN GOLD CO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CO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DN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DNEY NOR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DNEY SOU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NSVI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TSUN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99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23:45:45Z</dcterms:created>
  <dc:creator>STUDIO GATEWAY MEDIA QLD</dc:creator>
  <dc:description/>
  <dc:language>en-US</dc:language>
  <cp:lastModifiedBy>bob</cp:lastModifiedBy>
  <cp:lastPrinted>2014-11-30T07:48:03Z</cp:lastPrinted>
  <dcterms:modified xsi:type="dcterms:W3CDTF">2015-09-04T22:46:42Z</dcterms:modified>
  <cp:revision>58</cp:revision>
  <dc:subject/>
  <dc:title>PowerPoint Presentation</dc:title>
</cp:coreProperties>
</file>